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790-CD8A-420A-91D1-040948D1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F13-0067-4630-90CC-F1C837F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13A-F9F1-4BF0-A018-D05A1BC4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D1B-5732-43F5-AADC-599A982E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CC2-9025-4BEA-AF30-4ECD1C46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F3D-093B-478C-9002-4780F9B8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43F-2C50-4838-B038-DC80693E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B6B-7942-4A46-AAFE-211D657E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EF0-833A-4DF7-8E94-62DDCDC7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0C0-B971-4A2F-9C6A-1145CFD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904-090F-4F17-B1BA-62F8733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5E2-0097-4FA8-9384-A807443F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84F-FAFA-4100-9F44-E7687DDC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840" r="840" b="0"/>
          <a:stretch/>
        </p:blipFill>
        <p:spPr>
          <a:xfrm>
            <a:off x="411120" y="554040"/>
            <a:ext cx="8250120" cy="5797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952880" y="632448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0" r="1468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90720" y="12193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lumb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838080" y="9907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port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0" t="0" r="956" b="0"/>
          <a:stretch/>
        </p:blipFill>
        <p:spPr>
          <a:xfrm>
            <a:off x="411120" y="504720"/>
            <a:ext cx="824076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838080" y="11430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cretar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0" t="0" r="1317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838080" y="213372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curity guar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14400" y="1600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ldi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648320" y="91440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eterinarian (Vet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0" t="0" r="1279" b="0"/>
          <a:stretch/>
        </p:blipFill>
        <p:spPr>
          <a:xfrm>
            <a:off x="411120" y="504720"/>
            <a:ext cx="8213760" cy="5846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410080" y="38862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itr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0" r="878" b="0"/>
          <a:stretch/>
        </p:blipFill>
        <p:spPr>
          <a:xfrm>
            <a:off x="411120" y="504720"/>
            <a:ext cx="8247240" cy="5846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029200" y="396252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cian (Eye doctor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1317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914400" y="48006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nc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080" y="42670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rm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219320" y="1295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914400" y="52578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res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62120" y="9144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stronau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1429" b="0"/>
          <a:stretch/>
        </p:blipFill>
        <p:spPr>
          <a:xfrm>
            <a:off x="411120" y="504720"/>
            <a:ext cx="820116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838080" y="259092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rpent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124080" y="49528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shi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85800" y="32767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struction work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rcRect l="0" t="0" r="1451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45720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ntis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0" t="0" r="1317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080" y="441972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ngine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4:37:38Z</dcterms:created>
  <dc:creator>User</dc:creator>
  <dc:description/>
  <dc:language>en-US</dc:language>
  <cp:lastModifiedBy>Cynthia Wiseman</cp:lastModifiedBy>
  <dcterms:modified xsi:type="dcterms:W3CDTF">2012-06-08T04:04:35Z</dcterms:modified>
  <cp:revision>3</cp:revision>
  <dc:subject/>
  <dc:title>Slide 1</dc:title>
</cp:coreProperties>
</file>